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A4C-946D-4F2F-97EA-E2BA11DC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540-2754-4237-8382-B9C1A6DF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7D1-9965-4E6F-8D8F-CF333297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329-39CE-4897-BEE3-262B4CBA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20E-194D-4307-B420-F9E7B74C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9F1-8DB9-4002-B9A0-9E9D9BA0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D32-25C7-4541-A05D-CED0EF6E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A0-528A-4DF7-A957-55FC25E2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D9C-C06B-44AF-867F-394CD70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04C-FE5F-4702-9726-A3731C6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53F-1AA7-48F2-BC8A-667C040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1D3-C5AB-4E74-A6A0-8134825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74F-9A6B-4839-9131-E481C25B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12:20Z</dcterms:created>
  <dc:creator>abeason</dc:creator>
  <dc:description/>
  <dc:language>en-US</dc:language>
  <cp:lastModifiedBy>abeason</cp:lastModifiedBy>
  <dcterms:modified xsi:type="dcterms:W3CDTF">2008-11-14T18:12:23Z</dcterms:modified>
  <cp:revision>1</cp:revision>
  <dc:subject/>
  <dc:title>Slide 1</dc:title>
</cp:coreProperties>
</file>